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E8672-2540-4EBB-9E6E-FC9F27BF6AB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8D1AD-50A0-4E6F-ABC9-A4A7A2754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53012-04A5-428C-AEBC-C46CA7094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C6A-52F0-4C9D-BEAE-9833379C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49C-C1E7-43C0-A786-A9D2778B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977D-4A6E-42F8-B440-C2966BF8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B13-E8B0-4BA3-AE7C-7C90DFC6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005-B75A-4254-B246-431079D2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97A-6AA0-4DB4-A220-775EE727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1D9-9387-4FF2-9736-A3DD00CC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51E-183F-4669-93D8-46A683DB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9F2-12D9-4E39-9CE2-76AA8DFB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73C-4CB4-454F-95CE-4A3C7B9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29A-C5A0-4C8D-AC1E-D194B11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D5C-0F51-4071-A146-5386F799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7609E-6142-40FC-8D61-5B20F93BBA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51006-B97A-4EE3-8B21-A7490801C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Calibri"/>
              </a:rPr>
              <a:t>What is plate tectonics?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1. What is a tectonic plate?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2. Why do plates move?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200" spc="-1" strike="noStrike" u="sng">
                <a:solidFill>
                  <a:srgbClr val="000000"/>
                </a:solidFill>
                <a:uFillTx/>
                <a:latin typeface="Calibri"/>
              </a:rPr>
              <a:t>The places where plates meet are called plate boundaries.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986440" y="2438280"/>
            <a:ext cx="29559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ergen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228600" y="14176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At a divergent boundary tectonic plates move away from each oth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529160" y="1600200"/>
            <a:ext cx="4614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What are plate boundaries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How do plates move at a divergent boundary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ergen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At a convergent boundary tectonic plates move towards each other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4114800" y="1219320"/>
            <a:ext cx="4572000" cy="27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5600880" y="4314960"/>
            <a:ext cx="3085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At a transform boundary tectonic plates slide past each oth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670560" cy="2222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800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1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Which way to plates move at a convergent boundary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How do plates move at a transform boundary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ite boards </a:t>
            </a:r>
            <a:r>
              <a:rPr b="0" lang="en-US" sz="5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s is the name for a supercontinent that existed 250 million years ago.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e different pieces of the earth’s crust are called these. (2 words)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 – notes on plate bound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 – Team Work with white bo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 –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wo plates meet at this place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Plate movement is caused by this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onvection is located in this place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ectonic plates move together at this boundary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ectonic plates move apart at this boundary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ectonic plates move side by side at this boundary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13407"/>
          <a:stretch/>
        </p:blipFill>
        <p:spPr>
          <a:xfrm>
            <a:off x="3195720" y="2914560"/>
            <a:ext cx="549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0" t="0" r="0" b="12535"/>
          <a:stretch/>
        </p:blipFill>
        <p:spPr>
          <a:xfrm>
            <a:off x="2889360" y="2633760"/>
            <a:ext cx="55688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0" r="0" b="34283"/>
          <a:stretch/>
        </p:blipFill>
        <p:spPr>
          <a:xfrm>
            <a:off x="4222800" y="3429000"/>
            <a:ext cx="44640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1 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fter today, you will be able to define Pangaea and identify the types of plate boundari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Goal 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80% Maste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4.1 Plate Tectonics Class Not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14360" y="622440"/>
            <a:ext cx="52243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72720" bIns="4068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Arial"/>
              </a:rPr>
              <a:t>250 million years ago, all the continents were connected in a landmass called Pangea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075280" y="0"/>
            <a:ext cx="40687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: What was Pange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94000" y="1798560"/>
            <a:ext cx="43560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429000"/>
            <a:ext cx="86868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Earth’s crust is made of many separate pieces called tectonic plat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plate-tectonics.jpg"/>
          <p:cNvPicPr/>
          <p:nvPr/>
        </p:nvPicPr>
        <p:blipFill>
          <a:blip r:embed="rId1"/>
          <a:stretch/>
        </p:blipFill>
        <p:spPr>
          <a:xfrm>
            <a:off x="4114800" y="14400"/>
            <a:ext cx="50292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the Plates m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The plates of the Earth move because of convection currents in the mantle of the earth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572000" y="4173480"/>
            <a:ext cx="4572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58:23Z</dcterms:created>
  <dc:creator>Annie Kieran</dc:creator>
  <dc:description/>
  <dc:language>en-US</dc:language>
  <cp:lastModifiedBy>Caroline Roth</cp:lastModifiedBy>
  <dcterms:modified xsi:type="dcterms:W3CDTF">2011-05-24T02:06:23Z</dcterms:modified>
  <cp:revision>13</cp:revision>
  <dc:subject/>
  <dc:title>Plate Tectonics</dc:title>
</cp:coreProperties>
</file>